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45E41-A71E-4320-B4D6-A263EF60C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DBA36-F62A-4FBF-AE53-452385727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A074C-2838-47B5-9FB9-584D85D35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E549-55DF-4825-9228-5594CFF7B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AF82-ACEB-4713-9BFC-CFE7C5F69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53DC-490C-4232-8B51-332D4F640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0F7B-6201-49C1-B5AC-A676FE819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896F-011A-4930-8235-B5664DA81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7E64-CE73-433E-A416-1369F8C87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5C78-ACBF-4901-94FD-B9576655B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1B2F-4CB8-4594-8EF9-381C45FD3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C8A9-27EE-4406-B26A-50628103E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0417-4D53-4F55-A0DF-078B6D8E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488E-A2B3-4094-BE88-FE3CE5DF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2C86-621A-49A1-BBE9-D5C9F1A4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3DE77-F79D-429E-83D0-E03007F26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116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aninder Ka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inder Ka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73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Yo soy muy enérgica y estúpida pero yo estoy perezosa ahora. Yo quiero tener una fiesta pero mi mamá y papá estan en la casa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Masie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657600"/>
            <a:ext cx="17528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i nombre es Maninder. Yo vivo en Jackson Heights. Yo tengo un hermano. Se llama Lucky. Yo soy flaca y muy dulce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8" descr="Photo on 2011-10-21 at 13.53 #2.jpg"/>
          <p:cNvPicPr/>
          <p:nvPr/>
        </p:nvPicPr>
        <p:blipFill>
          <a:blip r:embed="rId1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0" descr="Photo on 2011-10-21 at 13.39 #2.jpg"/>
          <p:cNvPicPr/>
          <p:nvPr/>
        </p:nvPicPr>
        <p:blipFill>
          <a:blip r:embed="rId2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4" descr="Photo on 2011-10-21 at 13.53 #2.jpg"/>
          <p:cNvPicPr/>
          <p:nvPr/>
        </p:nvPicPr>
        <p:blipFill>
          <a:blip r:embed="rId3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27"/>
          <p:cNvSpPr/>
          <p:nvPr/>
        </p:nvSpPr>
        <p:spPr>
          <a:xfrm>
            <a:off x="2743200" y="3886200"/>
            <a:ext cx="35053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Lo siento, no puedo venir a tu casa. Nuestra familia caminamos al mar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Masiel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minutos antes.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Se. Yo quiero divertirme! ¿por qué no vienes a mi casa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Maninder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7 minutos antes.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8" descr="Photo on 2011-10-21 at 13.46.jpg"/>
          <p:cNvPicPr/>
          <p:nvPr/>
        </p:nvPicPr>
        <p:blipFill>
          <a:blip r:embed="rId4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Buenos días mi amiga!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¿Aww quiere vivir tu vida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Masiel: Comentario:      8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horas antes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819520" y="4572000"/>
            <a:ext cx="373356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No es el cumpleaños de tu mamá ahor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Cómo esta la fiest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Maninder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5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9" descr="Photo on 2011-10-21 at 13.53 #2.jpg"/>
          <p:cNvPicPr/>
          <p:nvPr/>
        </p:nvPicPr>
        <p:blipFill>
          <a:blip r:embed="rId5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7"/>
          <p:cNvSpPr/>
          <p:nvPr/>
        </p:nvSpPr>
        <p:spPr>
          <a:xfrm>
            <a:off x="274320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Buenos tardes y  Si!! Mis primos estoy en mi casa. Tienen están muy felices ahora. Yo tengo a hago la trabaja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de escuela. Mi hermana esta muy energética! Ella es habla con muy gentes! ¿Dónde esta tu?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u no puedes venir en mi fiesta?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Masiel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2" descr="Photo on 2011-10-21 at 13.46.jpg"/>
          <p:cNvPicPr/>
          <p:nvPr/>
        </p:nvPicPr>
        <p:blipFill>
          <a:blip r:embed="rId6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estoy dónde mi casa </a:t>
            </a:r>
            <a:r>
              <a:rPr b="0" lang="es-ES_tradnl" sz="900" spc="-1" strike="noStrike">
                <a:solidFill>
                  <a:srgbClr val="343434"/>
                </a:solidFill>
                <a:latin typeface="Wingdings"/>
                <a:ea typeface="Wingdings"/>
              </a:rPr>
              <a:t>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. No puedo venir en tu fiesta. Mi familia est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nojados ahora… pero quiénes en tu fiest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Maninder : Co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116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aninder Ka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inder Ka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9"/>
          <p:cNvSpPr/>
          <p:nvPr/>
        </p:nvSpPr>
        <p:spPr>
          <a:xfrm>
            <a:off x="1981080" y="1828800"/>
            <a:ext cx="4953240" cy="73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Yo soy muy enérgica y estúpida pero yo estoy perezosa ahora. Yo quiero tener una fiesta pero mi mamá y papá estan en la casa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Masie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57"/>
          <p:cNvSpPr/>
          <p:nvPr/>
        </p:nvSpPr>
        <p:spPr>
          <a:xfrm>
            <a:off x="152280" y="3657600"/>
            <a:ext cx="17528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i nombre es Maninder. Yo vivo en Jackson Heights. Yo tengo un hermano. Se llama Lucky. Yo soy flaca y muy dulce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8" descr="Photo on 2011-10-21 at 13.53 #2.jpg"/>
          <p:cNvPicPr/>
          <p:nvPr/>
        </p:nvPicPr>
        <p:blipFill>
          <a:blip r:embed="rId1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0" descr="Photo on 2011-10-21 at 13.39 #2.jpg"/>
          <p:cNvPicPr/>
          <p:nvPr/>
        </p:nvPicPr>
        <p:blipFill>
          <a:blip r:embed="rId2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4" descr="Photo on 2011-10-21 at 13.53 #2.jpg"/>
          <p:cNvPicPr/>
          <p:nvPr/>
        </p:nvPicPr>
        <p:blipFill>
          <a:blip r:embed="rId3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27"/>
          <p:cNvSpPr/>
          <p:nvPr/>
        </p:nvSpPr>
        <p:spPr>
          <a:xfrm>
            <a:off x="2743200" y="3886200"/>
            <a:ext cx="35053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Mi familia est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loca! Estamos muy cansadas. ¿Masii tu tienes otra cama para mi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Haha. Buenas noches Masii, te amo &lt;3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Masiel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minute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7"/>
          <p:cNvSpPr/>
          <p:nvPr/>
        </p:nvSpPr>
        <p:spPr>
          <a:xfrm>
            <a:off x="2819520" y="3276720"/>
            <a:ext cx="373356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Mis primas son aburridas pero tus primas son muy divertidas! Ellos no tienen vida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u eres una feliz pequeña niña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Maninder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7 horas antes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8" descr="Photo on 2011-10-21 at 13.46.jpg"/>
          <p:cNvPicPr/>
          <p:nvPr/>
        </p:nvPicPr>
        <p:blipFill>
          <a:blip r:embed="rId4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En mi fiesta estoy mi familia. Yo so muy cansadas! Buenas noches Maninder. Adiós!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Masiel: Comentario:      8 horas antes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7"/>
          <p:cNvSpPr/>
          <p:nvPr/>
        </p:nvSpPr>
        <p:spPr>
          <a:xfrm>
            <a:off x="2819520" y="4572000"/>
            <a:ext cx="373356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Maninder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5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69" descr="Photo on 2011-10-21 at 13.53 #2.jpg"/>
          <p:cNvPicPr/>
          <p:nvPr/>
        </p:nvPicPr>
        <p:blipFill>
          <a:blip r:embed="rId5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27"/>
          <p:cNvSpPr/>
          <p:nvPr/>
        </p:nvSpPr>
        <p:spPr>
          <a:xfrm>
            <a:off x="274320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Masiel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2" descr="Photo on 2011-10-21 at 13.46.jpg"/>
          <p:cNvPicPr/>
          <p:nvPr/>
        </p:nvPicPr>
        <p:blipFill>
          <a:blip r:embed="rId6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15:22:52Z</dcterms:created>
  <dc:creator>FriscoISD</dc:creator>
  <dc:description/>
  <dc:language>en-US</dc:language>
  <cp:lastModifiedBy>User</cp:lastModifiedBy>
  <dcterms:modified xsi:type="dcterms:W3CDTF">2013-01-02T14:57:19Z</dcterms:modified>
  <cp:revision>117</cp:revision>
  <dc:subject/>
  <dc:title>Profile</dc:title>
</cp:coreProperties>
</file>